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0DC-4F69-4D70-9BB3-DB5064E0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D9F-BE28-4DCF-94FB-9CB93AC5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97C-AA67-4C64-98C4-B6F2B050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995-7D4C-41CC-9E04-014707AA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EEF-8442-4C5E-A4F4-AB0BF169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0D4-10F9-4DB7-9082-19DE6D0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D41-D0EB-4B79-AADB-80B1E04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BF5-FD16-4548-B986-08FA70D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83B-BA59-409D-8B92-010E67AF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44A-7CBE-4BC6-A28F-74BE3D1A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44D-97B8-4FD4-AC8B-2DC3090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960-4C8C-49FD-9358-EFE47D4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408A-FA9B-4FF4-B6E7-32872E7B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Arctic Low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8 landform regions of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838080"/>
            <a:ext cx="6324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Western Cordilleran, Interior Plains, Innuitian Mountains, Hudson Bay Lowlands, Canadian Shield, Appalachian Mountains, Great Lakes – St. Lawrence Lowlands, and the Arctic Lowla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0574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region does not have coal, gas or oil because when it was formed there were no plants or anim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anadian Shie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climate region that Ottawa is locat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utheas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area in Canada where orographic precipitation occurs mo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itish Columb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ir mass affects Canada most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ntinental Arcti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wo ocean currents form fog off the east coast of Cana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Labrador and Gulf Stream curr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Canada, the dominant winds come from this direction and are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west and Westerl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WERN is an acronym for these six factors that affect clim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Latitude, Ocean Currents, Wind (prevailing), Elevation, Relief, and Nearness (proximity) to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ke Ontario has a moderating affect on Toronto in this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t makes it warmer in the winter and cooler in the summ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ound the world, high and low pressure belts have created a well established pattern of the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Gran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prevailing wi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ir masses are classified by these two criter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isture (dry or moist) and temperature (arctic, polar, or tropical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high the jet stream is and how fast it can m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9000 to 18000 meters and 300 Km/h to 500 Km/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are the colours used to create a climat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blue, green, and red</a:t>
            </a:r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temperature range for Ottawa if the lowest temperature is -1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and the highest temperature is 2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3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and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nada’s Clim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te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mate Grap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ir M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xtremely Ran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ombination of temperature and precipitation, etc. experienced daily i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month is considered a growing season month when the average temperature is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5.6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or gre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riteria is used to judge whether a location’s climate is continental or mariti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emperature range, season of maximum precipitation and total preciptation(greater or less than 1000mm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most significant landform region in the Yuk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the term for precipitation and temperature patterns averaged over a long period of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clima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s a cartographer, what is there a severe shortage of in this classro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ke off his sho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estern Cordill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province that Mr. Grant is fr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ova Scot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ING AIR M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20574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how much the temperature will drop per 100m before and after an air mass condenses as it moves up a moun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28600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 degree Celsius per 100m before condensation and 0.6 degrees Celsius per 100m after condens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9051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untain range was formed when North America collided with Europe and North Af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ppalachi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96524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oils of this region remain frozen most of the year but are rich in oil, gas and co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C39660</cp:lastModifiedBy>
  <dcterms:modified xsi:type="dcterms:W3CDTF">2014-05-14T16:24:49Z</dcterms:modified>
  <cp:revision>60</cp:revision>
  <dc:subject/>
  <dc:title>No Slide Title</dc:title>
</cp:coreProperties>
</file>